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F94-C16D-439C-9CBE-CD0F1BFC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5108-ED33-4531-B040-B7B0E38A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2D2-94BD-49BE-8772-5440BC7B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8E0-A5E8-4DD9-8940-C59FE2A0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219-A5B7-4FFA-AB02-4B046DB7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AD3-ECBB-4CC7-BC29-C80A658F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3887-3022-4DA1-8D62-300A3291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352-101D-4D88-8AE2-D4C2FB6A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38A-FB29-4AF8-8401-38C4C92A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8BD-7012-4201-BDFD-D8AE1329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290-50B8-496D-88C1-441C6C8A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1D2-54A6-46C2-BD23-D35CA635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EF9C-8A52-42A9-89E2-D9980BF57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1:05:35Z</dcterms:created>
  <dc:creator>Grupo Editorial</dc:creator>
  <dc:description/>
  <dc:language>en-US</dc:language>
  <cp:lastModifiedBy>Grupo Editorial</cp:lastModifiedBy>
  <dcterms:modified xsi:type="dcterms:W3CDTF">2001-11-13T11:08:15Z</dcterms:modified>
  <cp:revision>1</cp:revision>
  <dc:subject/>
  <dc:title>Sin título de diapositiva</dc:title>
</cp:coreProperties>
</file>